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3193-F6F6-47B4-B824-47CBFC2A3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7325-F7FF-4A6E-A3A4-AB06BE4E2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1682-5816-43E5-9A0F-9487599BD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5B69-7DC2-4078-A70C-011BDAD91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272-6FEE-44B8-95D0-E7AEDDBC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3F3-454C-4DF9-893D-92E808F8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469-290C-468A-822A-08E62039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D79-246D-41B1-B84E-E9E37F8B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FBD3-C749-494A-9247-2CCF7347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2360-6A19-46A1-806D-9192F0CF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8D81-6254-4F91-A200-212079B6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DBD0-7122-4859-9931-C8B505C7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9B59-D350-4847-92F6-1CAC3737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173C-5698-4E3F-AD6A-A4EAFB3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BBAD-956B-4EC8-BD33-4D66CE5B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845-185A-4AA0-8232-D08AB74B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F73B-6758-46B8-B3F7-A206629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8E90-4320-4972-9DBD-7888B410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0674-8BFA-4A82-A377-9073CADA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9F05-82A4-4C50-A770-BF721019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6E09-F615-452E-A522-3C22D6C5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F0A-EBBD-4D35-9492-8309EBAB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688-0BEA-4170-9A32-312D99A8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61A-77D2-49E3-BA9A-45B51B4A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2A5-02AC-4442-9EF2-A918A4AE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3E8-5468-4DF2-8898-E90E4948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8F4-D493-4934-ADF2-2F175D60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E7C-D969-4A8C-8995-FB0554EB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AB33-D7C8-4CA6-8017-06E2E4B859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0B3F-55DC-4A35-BE16-7ABC06AA6C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Cit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ks, pictures, pamphlets, artwork, websites, advertisement, personal interviews, magazines, journals, emails, CD ROMs, DVDs, maps, newspapers, discussion groups, blogs, letters, TV programs, movies, music, lectures, teachers, other students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n’t need to ci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r own experience, results of your experiments, common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knowledge: facts that are well known (7 days in a week); commonsense observations (temperature raises when the water starts to bo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When in doubt, Cit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itation Sty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Modern Language Association of America. Often preferred in the fields of languages, literature, 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American Psychological Association. Often preferred in the fields of psychology and many other social sciences (anthropology, communications, education, sociology, economics, busin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MLA citation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.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tle of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City of Publication: Publisher, Ye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YCLOPEDIAS and REFERENCE BOO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 of Article (if given). "Article Title."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tle of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City of Publication: Publish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AZINE ARTIC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. "Title of Article."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tle of Magaz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e: Page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SPAPER ARTIC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. "Title of Article."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me of Newspap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e, edition: Page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 Interviewed. Type of Interview, telephone, email, 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MLA citation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I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publication information may not be available for a Web site; provide what is giv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ire Internet Site: Scholarly Project or Professional S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tle of the S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ditor. Date and/or Version Number. Name of Sponsoring Instit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 of Access &lt;URL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ncyclopedia Myth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2004. 13 May 2004 &lt;http://www.pantheon.org/&gt;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bliograph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LA Citation Ex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Honolulu Community College Libr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2010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onolulu.hawaii.edu/library/mlahcc.html&gt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M Library - 1/2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2:32:44Z</dcterms:created>
  <dc:creator>Owner</dc:creator>
  <dc:description/>
  <dc:language>en-US</dc:language>
  <cp:lastModifiedBy>Veronica</cp:lastModifiedBy>
  <dcterms:modified xsi:type="dcterms:W3CDTF">2010-10-13T17:34:28Z</dcterms:modified>
  <cp:revision>77</cp:revision>
  <dc:subject/>
  <dc:title>IB – EE  Library Workshop 8</dc:title>
</cp:coreProperties>
</file>